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41FA-491F-4F71-B8F4-8274BD89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D3E3-048C-4F93-80C8-ECF17E28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16C0-41F9-4109-BDCE-1E99F49C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5876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41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32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5876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41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218-A1CF-44F8-8804-6ADA0CF6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5C40-1BF2-4A52-BD30-E1FA8613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FF3C-5ED9-4EED-A216-A2D22877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0B6B-FAD6-4F6D-B6AD-B7D6D714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9CFB-F0B0-4FF8-AA56-777237F8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96F4-A8F1-4AFF-947B-F90E2B93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8153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F877-A28D-4EBB-BAC5-8D6DABD1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3EF5-923A-4BC9-8231-7CF7A600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02A-3B09-481C-905A-DEFF3A5F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C27C-CA13-4308-8990-6F6CC5CF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36E0-7CC6-436C-B047-89B2DF08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3FD0-DE03-498F-9323-960509E3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4B07-A748-42C2-883C-D612FCEE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5876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41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32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5876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41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8ED8-B716-40CC-89E8-05792A7D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7DE4-454D-41BD-8698-9375EBCB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377-B16F-4D51-8304-0A687962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39B-6928-4AA8-BB6D-A72160BE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8153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35C5-9FD4-473B-BA69-8668FC7F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3563-FD2C-4877-8542-55950E2A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770-EFEC-4C2A-8680-FE7C81FF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47E-E9CA-45E6-9D19-4AAA02D2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Click to edit the outline text format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1" marL="743040" indent="-28584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con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2" marL="11430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Thir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3" marL="16002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our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4" marL="20574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if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ix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ven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1EC5-4DAF-4BF0-9382-81B31D5DCC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Z:\newtek\_backgrounds_1.02\Tim\powerpoint templates\41-60\worldwide_marketplace\elements\worldwide_marketplace_map.gif"/>
          <p:cNvPicPr/>
          <p:nvPr/>
        </p:nvPicPr>
        <p:blipFill>
          <a:blip r:embed="rId3"/>
          <a:stretch/>
        </p:blipFill>
        <p:spPr>
          <a:xfrm>
            <a:off x="6400800" y="4827600"/>
            <a:ext cx="2743200" cy="129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Click to edit the outline text format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1" marL="743040" indent="-28584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con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2" marL="11430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Thir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3" marL="16002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our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4" marL="20574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if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ix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ven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9334-335A-4FCF-AB15-394006FC2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390600" y="1127160"/>
            <a:ext cx="821700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административно-территориального деления в России</a:t>
            </a:r>
            <a:endParaRPr b="0" lang="en-US" sz="32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320" y="1341000"/>
            <a:ext cx="8888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лишком большое количество субъектов Федерации, их разноуровневый статус и большие диспропорции в численности населения и площади;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запутанная система национально-территориальных образований, лишь весьма отдалённо соответствующая расселению народов России;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игнорирование ряда реальных экономических, транспортных и культурных центров, к которым тяготеют значительные по площади и населению территории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неудобное положение границ между субъектами Федерации, когда территория, тяготеющая к одному субъекту, приписана к другому 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нелогичность системы городских округов (ГО)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отсутствие единообразия в системе районного деления 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нелогичность системы местного самоуправления — она вводится только в сельской местности.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79280" y="259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: 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85 субъектов федерации.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областей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республика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краёв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орода федерального значения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автономная область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автономных округа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files.school-collection.edu.ru/dlrstore/00000c51-1000-4ddd-517d-3600483aebf5/objects/07-1-2/vidy-rajonir-2.jpg"/>
          <p:cNvPicPr/>
          <p:nvPr/>
        </p:nvPicPr>
        <p:blipFill>
          <a:blip r:embed="rId1"/>
          <a:stretch/>
        </p:blipFill>
        <p:spPr>
          <a:xfrm>
            <a:off x="100080" y="549360"/>
            <a:ext cx="902016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45"/>
          <a:stretch/>
        </p:blipFill>
        <p:spPr>
          <a:xfrm>
            <a:off x="0" y="271440"/>
            <a:ext cx="914400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Haettenschweiler"/>
              </a:rPr>
              <a:t>Однородное районирование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83628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единицы административно-территориального деления, по которым собираются и публикуются усредненные статистические данные.</a:t>
            </a:r>
            <a:endParaRPr b="1" lang="en-US" sz="28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89" name="Схема 3" descr=""/>
          <p:cNvPicPr/>
          <p:nvPr/>
        </p:nvPicPr>
        <p:blipFill>
          <a:blip r:embed="rId1"/>
          <a:stretch/>
        </p:blipFill>
        <p:spPr>
          <a:xfrm>
            <a:off x="-73080" y="2487600"/>
            <a:ext cx="9302760" cy="4078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Haettenschweiler"/>
              </a:rPr>
              <a:t>Узловое районирование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960" y="685440"/>
            <a:ext cx="831204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 выделение районов в зависимости  от интенсивности хозяйственной деятельности внутри них.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rcRect l="0" t="0" r="44" b="-18"/>
          <a:stretch/>
        </p:blipFill>
        <p:spPr>
          <a:xfrm>
            <a:off x="2948040" y="2133720"/>
            <a:ext cx="6195960" cy="38462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108000" y="1989000"/>
            <a:ext cx="316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выявляет сферы влияния городов, транспортных узлов, предприятий. Каждый узловой район имеет ядро, где отчетливо проявляются все показатели и явления. Интенсивность явления падает от ядра к периферии.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Haettenschweiler"/>
              </a:rPr>
              <a:t>Принципы районирования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32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сть,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районов должна распространятся на  объекты одинаковой природы,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ирование должно служить конкретной цели,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58840" y="981000"/>
          <a:ext cx="8712000" cy="5307120"/>
        </p:xfrm>
        <a:graphic>
          <a:graphicData uri="http://schemas.openxmlformats.org/drawingml/2006/table">
            <a:tbl>
              <a:tblPr/>
              <a:tblGrid>
                <a:gridCol w="453960"/>
                <a:gridCol w="2349360"/>
                <a:gridCol w="5908680"/>
              </a:tblGrid>
              <a:tr h="397800"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убъектов федер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17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ая Федер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онституции 1993 г.: 89 (49 областей, 6 краев, 21 республика, 10 автономных округов, 1 автономная область, 2 города федерального подчинения — Москва, Санкт-Петербур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8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и Океан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6 штатов, 2 территории, в т. ч. столична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8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тивные  Штаты Микронез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шта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(28 штатов и 7 союзных территорий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айз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(13 штатов и 2 федеральных террит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9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ьян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(7 штатов и 7 административных территорий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эмира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иста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4 провинции, 2 территории, в т. ч. столична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Прямоугольник 5"/>
          <p:cNvSpPr/>
          <p:nvPr/>
        </p:nvSpPr>
        <p:spPr>
          <a:xfrm>
            <a:off x="108000" y="176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Страны с федеративным административно-территориальным устройством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79280" y="1197000"/>
          <a:ext cx="8713800" cy="4280040"/>
        </p:xfrm>
        <a:graphic>
          <a:graphicData uri="http://schemas.openxmlformats.org/drawingml/2006/table">
            <a:tbl>
              <a:tblPr/>
              <a:tblGrid>
                <a:gridCol w="453960"/>
                <a:gridCol w="2349720"/>
                <a:gridCol w="5910120"/>
              </a:tblGrid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убъектов федер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ери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8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енти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(23 провинции, 1 федеральный округ — Буэнос-Айрес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(26 штатов, 1 федеральный окру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80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(23 штата, 1 федеральный округ, 1 территория федерального подчинения, состоящая из 72 островов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10 провинций и 3 террит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кс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(31 штат, 1 федеральный окру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(50 штатов и 1 федеральный окру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роп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федеральных кантон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Прямоугольник 5"/>
          <p:cNvSpPr/>
          <p:nvPr/>
        </p:nvSpPr>
        <p:spPr>
          <a:xfrm>
            <a:off x="108000" y="176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Страны с федеративным административно-территориальным устройством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00" y="40464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административно-территориальные единицы должны быть:</a:t>
            </a:r>
            <a:endParaRPr b="0" lang="en-US" sz="32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41300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о крупными, чтобы местные административные службы не поглощали слишком много бюджетных средств;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определенное внутреннее единство, чтобы отражать интересы своих жителей и участвовать в политической жизни страны;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можности тесно следовать прежней сетке АТД для сохранения уже сложившихся общественных связей,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административные единицы должны создаваться с учетом развивающихся экономических центров.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6:09:28Z</dcterms:created>
  <dc:creator>Пользователь Windows</dc:creator>
  <dc:description/>
  <dc:language>en-US</dc:language>
  <cp:lastModifiedBy>Admin</cp:lastModifiedBy>
  <dcterms:modified xsi:type="dcterms:W3CDTF">2020-05-12T22:04:44Z</dcterms:modified>
  <cp:revision>13</cp:revision>
  <dc:subject/>
  <dc:title>Районирование и административно-территориальное де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90000000000010243100207f6000400038000</vt:lpwstr>
  </property>
</Properties>
</file>